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enlo Regular"/>
                <a:ea typeface="Monaco"/>
              </a:rPr>
              <a:t>	</a:t>
            </a:r>
            <a:r>
              <a:rPr b="0" lang="en-US" sz="11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100" spc="-1" strike="noStrike">
                <a:solidFill>
                  <a:srgbClr val="000000"/>
                </a:solidFill>
                <a:latin typeface="Menlo Regular"/>
                <a:ea typeface="Menlo Regular"/>
              </a:rPr>
              <a:t>(</a:t>
            </a:r>
            <a:r>
              <a:rPr b="0" lang="en-US" sz="11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100" spc="-1" strike="noStrike">
                <a:solidFill>
                  <a:srgbClr val="000000"/>
                </a:solidFill>
                <a:latin typeface="Menlo Regular"/>
                <a:ea typeface="Menlo Regular"/>
              </a:rPr>
              <a:t>,a_pointer);</a:t>
            </a:r>
            <a:endParaRPr b="0" lang="en-US" sz="11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enlo Regular"/>
                <a:ea typeface="Menlo Regular"/>
              </a:rPr>
              <a:t>	</a:t>
            </a:r>
            <a:r>
              <a:rPr b="0" lang="en-US" sz="11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100" spc="-1" strike="noStrike">
                <a:solidFill>
                  <a:srgbClr val="000000"/>
                </a:solidFill>
                <a:latin typeface="Menlo Regular"/>
                <a:ea typeface="Menlo Regular"/>
              </a:rPr>
              <a:t>(</a:t>
            </a:r>
            <a:r>
              <a:rPr b="0" lang="en-US" sz="11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100" spc="-1" strike="noStrike">
                <a:solidFill>
                  <a:srgbClr val="000000"/>
                </a:solidFill>
                <a:latin typeface="Menlo Regular"/>
                <a:ea typeface="Menlo Regular"/>
              </a:rPr>
              <a:t>,&amp;*a_pointer);</a:t>
            </a:r>
            <a:endParaRPr b="0" lang="en-US" sz="11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enlo Regular"/>
                <a:ea typeface="Monaco"/>
              </a:rPr>
              <a:t>	</a:t>
            </a:r>
            <a:r>
              <a:rPr b="0" lang="en-US" sz="11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100" spc="-1" strike="noStrike">
                <a:solidFill>
                  <a:srgbClr val="000000"/>
                </a:solidFill>
                <a:latin typeface="Menlo Regular"/>
                <a:ea typeface="Menlo Regular"/>
              </a:rPr>
              <a:t>(</a:t>
            </a:r>
            <a:r>
              <a:rPr b="0" lang="en-US" sz="11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-----------"</a:t>
            </a:r>
            <a:r>
              <a:rPr b="0" lang="en-US" sz="1100" spc="-1" strike="noStrike">
                <a:solidFill>
                  <a:srgbClr val="000000"/>
                </a:solidFill>
                <a:latin typeface="Menlo Regular"/>
                <a:ea typeface="Menlo Regular"/>
              </a:rPr>
              <a:t>);</a:t>
            </a:r>
            <a:endParaRPr b="0" lang="en-US" sz="11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enlo Regular"/>
                <a:ea typeface="Monaco"/>
              </a:rPr>
              <a:t>	</a:t>
            </a:r>
            <a:r>
              <a:rPr b="0" lang="en-US" sz="11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100" spc="-1" strike="noStrike">
                <a:solidFill>
                  <a:srgbClr val="000000"/>
                </a:solidFill>
                <a:latin typeface="Menlo Regular"/>
                <a:ea typeface="Menlo Regular"/>
              </a:rPr>
              <a:t>(</a:t>
            </a:r>
            <a:r>
              <a:rPr b="0" lang="en-US" sz="11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100" spc="-1" strike="noStrike">
                <a:solidFill>
                  <a:srgbClr val="000000"/>
                </a:solidFill>
                <a:latin typeface="Menlo Regular"/>
                <a:ea typeface="Menlo Regular"/>
              </a:rPr>
              <a:t>,*&amp;a);</a:t>
            </a:r>
            <a:endParaRPr b="0" lang="en-US" sz="11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enlo Regular"/>
                <a:ea typeface="Menlo Regular"/>
              </a:rPr>
              <a:t>	</a:t>
            </a:r>
            <a:r>
              <a:rPr b="0" lang="en-US" sz="11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100" spc="-1" strike="noStrike">
                <a:solidFill>
                  <a:srgbClr val="000000"/>
                </a:solidFill>
                <a:latin typeface="Menlo Regular"/>
                <a:ea typeface="Menlo Regular"/>
              </a:rPr>
              <a:t>(</a:t>
            </a:r>
            <a:r>
              <a:rPr b="0" lang="en-US" sz="11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100" spc="-1" strike="noStrike">
                <a:solidFill>
                  <a:srgbClr val="000000"/>
                </a:solidFill>
                <a:latin typeface="Menlo Regular"/>
                <a:ea typeface="Menlo Regular"/>
              </a:rPr>
              <a:t>,(*a_pointer)++);</a:t>
            </a:r>
            <a:endParaRPr b="0" lang="en-US" sz="11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让学生函数写一个交换变量的程序</a:t>
            </a:r>
            <a:endParaRPr b="0" lang="en-US" sz="2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让学生函数写一个交换变量的程序</a:t>
            </a:r>
            <a:endParaRPr b="0" lang="en-US" sz="2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直接访问：内存地址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间接访问：指针访问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86960" y="1981080"/>
            <a:ext cx="527076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86960" y="5308560"/>
            <a:ext cx="527076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946920" y="2768400"/>
            <a:ext cx="5270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787320" y="1257480"/>
            <a:ext cx="11430000" cy="723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097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8543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29860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101592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6052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90512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34936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349360" indent="-571320">
              <a:spcBef>
                <a:spcPts val="9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349360" indent="-571320">
              <a:spcBef>
                <a:spcPts val="9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九章：指针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&amp;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和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*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运算符再作说明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5" name=""/>
          <p:cNvSpPr/>
          <p:nvPr/>
        </p:nvSpPr>
        <p:spPr>
          <a:xfrm>
            <a:off x="1930320" y="3137040"/>
            <a:ext cx="5918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如果已执行了语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_pointer=&amp;a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amp;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_poi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&amp;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_pointer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++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输入</a:t>
            </a:r>
            <a:r>
              <a:rPr b="0" lang="en-US" sz="3300" spc="-1" strike="noStrike">
                <a:solidFill>
                  <a:srgbClr val="626053"/>
                </a:solidFill>
                <a:latin typeface="Baskerville"/>
                <a:ea typeface="华文宋体"/>
              </a:rPr>
              <a:t>a</a:t>
            </a:r>
            <a:r>
              <a:rPr b="0" lang="zh-CN" sz="3300" spc="-1" strike="noStrike">
                <a:solidFill>
                  <a:srgbClr val="626053"/>
                </a:solidFill>
                <a:latin typeface="Baskerville"/>
                <a:ea typeface="华文宋体"/>
              </a:rPr>
              <a:t>和</a:t>
            </a:r>
            <a:r>
              <a:rPr b="0" lang="en-US" sz="3300" spc="-1" strike="noStrike">
                <a:solidFill>
                  <a:srgbClr val="626053"/>
                </a:solidFill>
                <a:latin typeface="Baskerville"/>
                <a:ea typeface="华文宋体"/>
              </a:rPr>
              <a:t>b</a:t>
            </a:r>
            <a:r>
              <a:rPr b="0" lang="zh-CN" sz="3300" spc="-1" strike="noStrike">
                <a:solidFill>
                  <a:srgbClr val="626053"/>
                </a:solidFill>
                <a:latin typeface="Baskerville"/>
                <a:ea typeface="华文宋体"/>
              </a:rPr>
              <a:t>两个整数，按先大后小的顺序输出</a:t>
            </a:r>
            <a:r>
              <a:rPr b="0" lang="en-US" sz="3300" spc="-1" strike="noStrike">
                <a:solidFill>
                  <a:srgbClr val="626053"/>
                </a:solidFill>
                <a:latin typeface="Baskerville"/>
                <a:ea typeface="华文宋体"/>
              </a:rPr>
              <a:t>a</a:t>
            </a:r>
            <a:r>
              <a:rPr b="0" lang="zh-CN" sz="3300" spc="-1" strike="noStrike">
                <a:solidFill>
                  <a:srgbClr val="626053"/>
                </a:solidFill>
                <a:latin typeface="Baskerville"/>
                <a:ea typeface="华文宋体"/>
              </a:rPr>
              <a:t>和</a:t>
            </a:r>
            <a:r>
              <a:rPr b="0" lang="en-US" sz="3300" spc="-1" strike="noStrike">
                <a:solidFill>
                  <a:srgbClr val="626053"/>
                </a:solidFill>
                <a:latin typeface="Baskerville"/>
                <a:ea typeface="华文宋体"/>
              </a:rPr>
              <a:t>b</a:t>
            </a:r>
            <a:endParaRPr b="0" lang="en-US" sz="33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27" name=""/>
          <p:cNvSpPr/>
          <p:nvPr/>
        </p:nvSpPr>
        <p:spPr>
          <a:xfrm>
            <a:off x="1739880" y="2184480"/>
            <a:ext cx="952488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p1,*p2,a,b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scan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%d 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&amp;a,&amp;b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a&lt;b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p1 = &amp;b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p2 = &amp;a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}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els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p1 = &amp;a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p2 = &amp;b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print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max=%d,min=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*p1,*p2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指针变量作为函数参数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9" name=""/>
          <p:cNvSpPr/>
          <p:nvPr/>
        </p:nvSpPr>
        <p:spPr>
          <a:xfrm>
            <a:off x="863640" y="2502000"/>
            <a:ext cx="1127772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函数的参数不仅可以是整型、浮点型、字符型等数据，还可以是指针类型。它的作用是将一个变量的地址传送到另一个函数中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输入两个整数，交换变量的值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31" name=""/>
          <p:cNvSpPr/>
          <p:nvPr/>
        </p:nvSpPr>
        <p:spPr>
          <a:xfrm>
            <a:off x="4528440" y="3009240"/>
            <a:ext cx="517176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void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swap(</a:t>
            </a:r>
            <a:r>
              <a:rPr b="0" lang="en-US" sz="14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1, </a:t>
            </a:r>
            <a:r>
              <a:rPr b="0" lang="en-US" sz="14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2)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4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temp;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temp = *p1;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*p1 = *p2;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*p2 = temp;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4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4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4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4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4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4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4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4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4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,b;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4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pointer_1,*poninter_2;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4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scanf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4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%d %d"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&amp;a,&amp;b);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pointer_1 = &amp;a;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poninter_2 = &amp;b;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4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swap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pointer_1, poninter_2);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4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4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 %d"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a,b);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4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4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4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输入</a:t>
            </a:r>
            <a:r>
              <a:rPr b="0" lang="en-US" sz="3300" spc="-1" strike="noStrike">
                <a:solidFill>
                  <a:srgbClr val="626053"/>
                </a:solidFill>
                <a:latin typeface="Baskerville"/>
                <a:ea typeface="华文宋体"/>
              </a:rPr>
              <a:t>a</a:t>
            </a:r>
            <a:r>
              <a:rPr b="0" lang="zh-CN" sz="3300" spc="-1" strike="noStrike">
                <a:solidFill>
                  <a:srgbClr val="626053"/>
                </a:solidFill>
                <a:latin typeface="Baskerville"/>
                <a:ea typeface="华文宋体"/>
              </a:rPr>
              <a:t>和</a:t>
            </a:r>
            <a:r>
              <a:rPr b="0" lang="en-US" sz="3300" spc="-1" strike="noStrike">
                <a:solidFill>
                  <a:srgbClr val="626053"/>
                </a:solidFill>
                <a:latin typeface="Baskerville"/>
                <a:ea typeface="华文宋体"/>
              </a:rPr>
              <a:t>b</a:t>
            </a:r>
            <a:r>
              <a:rPr b="0" lang="zh-CN" sz="3300" spc="-1" strike="noStrike">
                <a:solidFill>
                  <a:srgbClr val="626053"/>
                </a:solidFill>
                <a:latin typeface="Baskerville"/>
                <a:ea typeface="华文宋体"/>
              </a:rPr>
              <a:t>两个整数，按先大后小的顺序输出</a:t>
            </a:r>
            <a:r>
              <a:rPr b="0" lang="en-US" sz="3300" spc="-1" strike="noStrike">
                <a:solidFill>
                  <a:srgbClr val="626053"/>
                </a:solidFill>
                <a:latin typeface="Baskerville"/>
                <a:ea typeface="华文宋体"/>
              </a:rPr>
              <a:t>a</a:t>
            </a:r>
            <a:r>
              <a:rPr b="0" lang="zh-CN" sz="3300" spc="-1" strike="noStrike">
                <a:solidFill>
                  <a:srgbClr val="626053"/>
                </a:solidFill>
                <a:latin typeface="Baskerville"/>
                <a:ea typeface="华文宋体"/>
              </a:rPr>
              <a:t>和</a:t>
            </a:r>
            <a:r>
              <a:rPr b="0" lang="en-US" sz="3300" spc="-1" strike="noStrike">
                <a:solidFill>
                  <a:srgbClr val="626053"/>
                </a:solidFill>
                <a:latin typeface="Baskerville"/>
                <a:ea typeface="华文宋体"/>
              </a:rPr>
              <a:t>b</a:t>
            </a:r>
            <a:endParaRPr b="0" lang="en-US" sz="33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33" name=""/>
          <p:cNvSpPr/>
          <p:nvPr/>
        </p:nvSpPr>
        <p:spPr>
          <a:xfrm>
            <a:off x="2057400" y="1968480"/>
            <a:ext cx="9855360" cy="73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swap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1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2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temp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temp = *p1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*p1 = *p2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*p2 = temp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,b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pointer_1,*poninter_2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scan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%d 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&amp;a,&amp;b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pointer_1 = &amp;a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poninter_2 = &amp;b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a&lt;b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swap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pointer_1, poninter_2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 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a,b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输入</a:t>
            </a:r>
            <a:r>
              <a:rPr b="0" lang="en-US" sz="4000" spc="-1" strike="noStrike">
                <a:solidFill>
                  <a:srgbClr val="626053"/>
                </a:solidFill>
                <a:latin typeface="Baskerville"/>
                <a:ea typeface="华文宋体"/>
              </a:rPr>
              <a:t>a</a:t>
            </a:r>
            <a:r>
              <a:rPr b="0" lang="zh-CN" sz="4000" spc="-1" strike="noStrike">
                <a:solidFill>
                  <a:srgbClr val="626053"/>
                </a:solidFill>
                <a:latin typeface="Baskerville"/>
                <a:ea typeface="华文宋体"/>
              </a:rPr>
              <a:t>、</a:t>
            </a:r>
            <a:r>
              <a:rPr b="0" lang="en-US" sz="4000" spc="-1" strike="noStrike">
                <a:solidFill>
                  <a:srgbClr val="626053"/>
                </a:solidFill>
                <a:latin typeface="Baskerville"/>
                <a:ea typeface="华文宋体"/>
              </a:rPr>
              <a:t>b</a:t>
            </a:r>
            <a:r>
              <a:rPr b="0" lang="zh-CN" sz="4000" spc="-1" strike="noStrike">
                <a:solidFill>
                  <a:srgbClr val="626053"/>
                </a:solidFill>
                <a:latin typeface="Baskerville"/>
                <a:ea typeface="华文宋体"/>
              </a:rPr>
              <a:t>、</a:t>
            </a:r>
            <a:r>
              <a:rPr b="0" lang="en-US" sz="4000" spc="-1" strike="noStrike">
                <a:solidFill>
                  <a:srgbClr val="626053"/>
                </a:solidFill>
                <a:latin typeface="Baskerville"/>
                <a:ea typeface="华文宋体"/>
              </a:rPr>
              <a:t>c</a:t>
            </a:r>
            <a:r>
              <a:rPr b="0" lang="zh-CN" sz="4000" spc="-1" strike="noStrike">
                <a:solidFill>
                  <a:srgbClr val="626053"/>
                </a:solidFill>
                <a:latin typeface="Baskerville"/>
                <a:ea typeface="华文宋体"/>
              </a:rPr>
              <a:t>这</a:t>
            </a:r>
            <a:r>
              <a:rPr b="0" lang="en-US" sz="4000" spc="-1" strike="noStrike">
                <a:solidFill>
                  <a:srgbClr val="626053"/>
                </a:solidFill>
                <a:latin typeface="Baskerville"/>
                <a:ea typeface="华文宋体"/>
              </a:rPr>
              <a:t>3</a:t>
            </a:r>
            <a:r>
              <a:rPr b="0" lang="zh-CN" sz="4000" spc="-1" strike="noStrike">
                <a:solidFill>
                  <a:srgbClr val="626053"/>
                </a:solidFill>
                <a:latin typeface="Baskerville"/>
                <a:ea typeface="华文宋体"/>
              </a:rPr>
              <a:t>个整数，按大小顺序排列</a:t>
            </a:r>
            <a:endParaRPr b="0" lang="en-US" sz="40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35" name=""/>
          <p:cNvSpPr/>
          <p:nvPr/>
        </p:nvSpPr>
        <p:spPr>
          <a:xfrm>
            <a:off x="317520" y="2921040"/>
            <a:ext cx="5524560" cy="62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swap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pt1,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t2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temp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temp=*pt1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*pt1=*pt2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*pt2=temp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exchange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q1,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q2,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q3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*q1&lt;*q2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swap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q1,q2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*q1&lt;*q3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swap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q1,q3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*q2&lt;*q3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swap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q2,q3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6" name=""/>
          <p:cNvSpPr/>
          <p:nvPr/>
        </p:nvSpPr>
        <p:spPr>
          <a:xfrm>
            <a:off x="6058080" y="3448080"/>
            <a:ext cx="65023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,b,c,*p1,*p2,*p3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scan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%d,%d,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&amp;a,&amp;b,&amp;c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p1=&amp;a;p2=&amp;b;p3=&amp;c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exchang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p1,p2,p3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,%d,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a,b,c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小结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8" name=""/>
          <p:cNvSpPr/>
          <p:nvPr/>
        </p:nvSpPr>
        <p:spPr>
          <a:xfrm>
            <a:off x="469800" y="2114640"/>
            <a:ext cx="12331800" cy="73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Heiti SC Light"/>
              </a:rPr>
              <a:t>在本章中介绍了指针的基本概念和初步应用。应该说明，指针是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Heiti SC Light"/>
              </a:rPr>
              <a:t>语言中重要的概念，是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Heiti SC Light"/>
              </a:rPr>
              <a:t>的一个特色。使用指针的优点：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Heiti SC Light"/>
              </a:rPr>
              <a:t>提高程序效率；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Heiti SC Light"/>
              </a:rPr>
              <a:t>在调用函数时变量改变了的值能够为主调函数使用，即可以从函数调用得到多个可改变的值；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Heiti SC Light"/>
              </a:rPr>
              <a:t>可以动态存储分配。</a:t>
            </a:r>
            <a:endParaRPr b="0" lang="en-US" sz="33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Heiti SC Light"/>
              </a:rPr>
              <a:t>但是同时应该看到，指针使用实在太灵活，对熟练的程序员来说，可以利用它编写出颇有特色的、质量优良的程序，实现许多用其他高级语言难以实现的功能，但也十分容易出错，而且这种错误往往比较隐蔽。由于指针运用的错误可能会使整个程序遭受破坏，比如由于未对指针变量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Heiti SC Light"/>
              </a:rPr>
              <a:t>赋值就向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Heiti SC Light"/>
              </a:rPr>
              <a:t>赋值，就可能破坏了有用的单元的内容。有人说指针是有利有弊的工具，如果使用指针不当，会出现隐蔽的、难以发现和排除的故障。因此，使用指针要十分小心谨慎，要多上机调试程序，以弄清一些细节，并积累经验。</a:t>
            </a:r>
            <a:endParaRPr b="0" lang="en-US" sz="33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概述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9" name=""/>
          <p:cNvSpPr/>
          <p:nvPr/>
        </p:nvSpPr>
        <p:spPr>
          <a:xfrm>
            <a:off x="851040" y="2279520"/>
            <a:ext cx="112903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指针是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言中的一个重要概念，也是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言的一个重要特色。正确而灵活地运用它，可以有效地表示复杂的数据结构；能动态分配内存；方便地使用字符串；在调用函数时能获得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个以上的结果；能直接处理内存单元地址等，这对设计系统软件是非常必要的。掌握指针的应用，可以使程序简洁、紧凑、高效。每一个学习和使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言的人，都应当深入地学习和掌握指针。可以说，不掌握指针就是没有掌握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的精华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地址和指针的概念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69720" y="2362320"/>
            <a:ext cx="10464840" cy="351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变量的属性：名、值和地址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变量的访问方式：直接访问、间接访问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变量的”地址”称为该变量的“指针”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指针变量是存放地址的变量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变量的指针和指向变量的指针变量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3" name=""/>
          <p:cNvSpPr/>
          <p:nvPr/>
        </p:nvSpPr>
        <p:spPr>
          <a:xfrm>
            <a:off x="1270080" y="2451240"/>
            <a:ext cx="1046484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变量的指针就是变量的地址。存放变量地址的变量是指针变量，它用来指向另一个变量。为了表示指针变量和它所指向的变量之间的联系，在程序中用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*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符号表示“指向”。如果已定义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i_pointer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为指针变量，则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*i_pointer)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是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_pointer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所指向的变量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定义一个指针变量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5" name=""/>
          <p:cNvSpPr/>
          <p:nvPr/>
        </p:nvSpPr>
        <p:spPr>
          <a:xfrm>
            <a:off x="1104840" y="2349360"/>
            <a:ext cx="1079496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言规定所有变量在使用前必须定义，指定其类型，并按此分配内存单元。指针变量不同于整型变量和其他类型的变量，它是用来专门存放地址的，必须将它定义为“指针类型”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定义指针变量的一般形式为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zh-CN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基类型</a:t>
            </a:r>
            <a:r>
              <a:rPr b="0" lang="en-US" sz="3600" spc="-1" strike="noStrike">
                <a:solidFill>
                  <a:srgbClr val="ffff00"/>
                </a:solidFill>
                <a:latin typeface="Times New Roman Italic"/>
                <a:ea typeface="Times New Roman Italic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 Italic"/>
                <a:ea typeface="Times New Roman Italic"/>
              </a:rPr>
              <a:t>* </a:t>
            </a:r>
            <a:r>
              <a:rPr b="0" i="1" lang="zh-CN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指针变量名</a:t>
            </a:r>
            <a:r>
              <a:rPr b="0" lang="en-US" sz="3600" spc="-1" strike="noStrike">
                <a:solidFill>
                  <a:srgbClr val="ffff00"/>
                </a:solidFill>
                <a:latin typeface="Times New Roman Italic"/>
                <a:ea typeface="Times New Roman Italic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可以用赋值语句使一个指针变量得到另一个变量的地址，从而使它指向一个该变量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8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指针定义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17" name=""/>
          <p:cNvSpPr/>
          <p:nvPr/>
        </p:nvSpPr>
        <p:spPr>
          <a:xfrm>
            <a:off x="1434960" y="2362320"/>
            <a:ext cx="10122120" cy="65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10;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</a:t>
            </a:r>
            <a:r>
              <a:rPr b="0" lang="zh-CN" sz="1800" spc="-1" strike="noStrike">
                <a:solidFill>
                  <a:srgbClr val="b20000"/>
                </a:solidFill>
                <a:latin typeface="Heiti SC Light"/>
                <a:ea typeface="Heiti SC Light"/>
              </a:rPr>
              <a:t>定义一个整型的变量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i_pointer;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</a:t>
            </a:r>
            <a:r>
              <a:rPr b="0" lang="zh-CN" sz="1800" spc="-1" strike="noStrike">
                <a:solidFill>
                  <a:srgbClr val="b20000"/>
                </a:solidFill>
                <a:latin typeface="Heiti SC Light"/>
                <a:ea typeface="Heiti SC Light"/>
              </a:rPr>
              <a:t>定义一个整型指针的变量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(</a:t>
            </a:r>
            <a:r>
              <a:rPr b="0" lang="zh-CN" sz="1800" spc="-1" strike="noStrike">
                <a:solidFill>
                  <a:srgbClr val="b20000"/>
                </a:solidFill>
                <a:latin typeface="Heiti SC Light"/>
                <a:ea typeface="Heiti SC Light"/>
              </a:rPr>
              <a:t>这个变量中存放的是指针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i_pointer = &amp;i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sizeo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i)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sizeo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i_pointer)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sizeo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sizeo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)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i_pointer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*i_pointer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&amp;i_pointer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在定义指针变量时要注意两点：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9" name=""/>
          <p:cNvSpPr/>
          <p:nvPr/>
        </p:nvSpPr>
        <p:spPr>
          <a:xfrm>
            <a:off x="2682360" y="2651400"/>
            <a:ext cx="79052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指针变量前面的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*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表示该变量的类型为指针型变量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在定义指针变量时必须指定基类型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指针变量的引用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1" name=""/>
          <p:cNvSpPr/>
          <p:nvPr/>
        </p:nvSpPr>
        <p:spPr>
          <a:xfrm>
            <a:off x="952560" y="2889360"/>
            <a:ext cx="11099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指针变量中只能存放地址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指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，不要将一个整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或其他非地址类型的数据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赋给一个指针变量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有两个有关的运算符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amp;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：取地址运算符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：指针运算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或称“间接访问”运算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，取其指向的内容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通过指针变量访问整型变量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23" name=""/>
          <p:cNvSpPr/>
          <p:nvPr/>
        </p:nvSpPr>
        <p:spPr>
          <a:xfrm>
            <a:off x="2120760" y="2647800"/>
            <a:ext cx="8763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,b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a_pointer,*b_pointer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a=100; b=1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a_pointer = &amp;a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b_pointer = &amp;b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,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a,b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,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*a_pointer,*b_pointer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